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F4F-976A-412B-8184-F7251FF2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009-B262-48C9-8A6F-3534015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A8D-EC8F-4153-AB52-A6D0C56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EED-E1CF-4C8B-9123-6D381F35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D605-6748-43B7-B45C-223CD4B2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785E-19DE-4950-BE4F-E1327255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7DF7-6CEE-4B47-8BBE-CC88AC9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E90C-2608-4B78-BA5C-CAAAFEC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8F55-3D02-4DEB-BF58-E1C1BC7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355-4D2A-4897-855B-E3A22E0E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23A-8795-4FBF-8BDE-35012583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77F-8761-4AA9-A777-A33810C2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B423-316D-41D5-A391-3B153CE0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6BB3-31DA-45F1-9281-416A46A1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2B0-2390-4EED-8366-8A3E6B7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2D5C-C482-4B88-97DA-758CB01E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81F-9C7F-46EA-9FE5-351D7834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1C9-D02A-4CFA-B116-BB399467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3DB-7B89-4C5C-82DB-F7A6116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1A0-FBF8-43F4-B1FA-D0D4298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AA6-A47E-47CA-9FEA-6917D4AE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7F8-FF80-41D5-B56F-EFA2571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F7F-CFF4-4126-98F2-6AA32F6E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FEB-7132-42D6-8AD2-507AB60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5767f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E275-8B88-495D-BDEE-5F213A2972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5767f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874-6B28-4E62-8DA1-0296E4539E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lackadder ITC"/>
              </a:rPr>
              <a:t>The American story part 2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By: Rondale Sal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nior Seau, 1969-20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ay 2, 2012: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Former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NFL linebacker Junior Seau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committed suicide by a self-inflicted gunshot wound to the chest. Later analysis of Seau's brain reveled that he suffered fro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hronic Traumatic Encephalopathy (CTE)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, a form of degenerativ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rain damage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associated with repetitiv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ub-concussional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trauma to the brai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Junior Seau, 1969-2012.jpg"/>
          <p:cNvPicPr/>
          <p:nvPr/>
        </p:nvPicPr>
        <p:blipFill>
          <a:blip r:embed="rId2"/>
          <a:stretch/>
        </p:blipFill>
        <p:spPr>
          <a:xfrm>
            <a:off x="6248520" y="1600200"/>
            <a:ext cx="2895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hina's Manned Space Program: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une 16, 2012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na launched its fourth manned space expedition,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henzhou-9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C618N0079H_2012資料照片_N71_copy1.JPG"/>
          <p:cNvPicPr/>
          <p:nvPr/>
        </p:nvPicPr>
        <p:blipFill>
          <a:blip r:embed="rId2"/>
          <a:stretch/>
        </p:blipFill>
        <p:spPr>
          <a:xfrm>
            <a:off x="5029200" y="13716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131660413_31n.jpg"/>
          <p:cNvPicPr/>
          <p:nvPr/>
        </p:nvPicPr>
        <p:blipFill>
          <a:blip r:embed="rId3"/>
          <a:stretch/>
        </p:blipFill>
        <p:spPr>
          <a:xfrm>
            <a:off x="4952880" y="3581280"/>
            <a:ext cx="2352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2012 Summer Olympics in Lond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3" name="Picture 5" descr="London-2012-Olympics-Tower-Bridge.jpg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80880" y="16002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July 27, 2012: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In London, the opening ceremony to the 2013 Summer Olympic Games were held.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Death of the First Man on the Moon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ugust 25, 2012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Retired American Astronaut Neil Armstrong, the first human being to walk on the Moon, died at the age of 82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734px-As11-40-5886.jpg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First Obama-Romney Debate: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 the first televised debate between the Republican and Democratic presidential nominees, Mitt Romney won a clear victory over President Obam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5" descr="presidential-debate-1003.jpg"/>
          <p:cNvPicPr/>
          <p:nvPr/>
        </p:nvPicPr>
        <p:blipFill>
          <a:blip r:embed="rId2"/>
          <a:stretch/>
        </p:blipFill>
        <p:spPr>
          <a:xfrm>
            <a:off x="5638680" y="1523880"/>
            <a:ext cx="3505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Obama Bounces Back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Verdana"/>
              </a:rPr>
              <a:t>President Obama and Governor Romney debated for a second time, this time in a "Town Hall" format. In this debate, Obama was much more aggressive, and much more effec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1017_Debate_02_630x420.jpg"/>
          <p:cNvPicPr/>
          <p:nvPr/>
        </p:nvPicPr>
        <p:blipFill>
          <a:blip r:embed="rId2"/>
          <a:stretch/>
        </p:blipFill>
        <p:spPr>
          <a:xfrm>
            <a:off x="6019920" y="1523880"/>
            <a:ext cx="31240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hina's 5th Manned Space Missio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une 11, 2013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China launched its fifth manned mission into space,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Shenzhou-10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5" descr="Shenzhou-10-11June2013-Long-March-2F-Rocket.jpg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Pope Francis issues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vember 26, 2013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a Papal treatise entitled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Evangelii Gaudi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pe Franci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nounced unrestrained capitalis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5" descr="Pope-Francis-2013.jpg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Seattle Seahawk's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anuary 19, 2014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In the NFC Championship game between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attle Seahawk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an Francisco Forty-Niner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5" descr="Richard-Sherman-Rant-NFC-Championship-19Jan2014.jpg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ebruary 2, 2014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uper Bowl XLVIII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attle Seahawk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defeated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enver Bronco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43 to 8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. Seattle's victory over Denver was the Seahawk's first Super Bowl Championship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5" descr="Russell-Wilson-Seattle-QB-Super-Bowl-XLVIII.jpg"/>
          <p:cNvPicPr/>
          <p:nvPr/>
        </p:nvPicPr>
        <p:blipFill>
          <a:blip r:embed="rId2"/>
          <a:stretch/>
        </p:blipFill>
        <p:spPr>
          <a:xfrm>
            <a:off x="487692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ublican Presidential Debat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913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ublican Presidential hopefuls debated in Manchester, New Hampshire over 6 months in advance of the New Hampshire Primary.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une 13, 2011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863"/>
                </a:solidFill>
                <a:latin typeface="Arial"/>
              </a:rPr>
              <a:t>Troops--Surround Ukrainian Military Base</a:t>
            </a:r>
            <a:r>
              <a:rPr b="0" lang="en-US" sz="4400" spc="-1" strike="noStrike">
                <a:solidFill>
                  <a:srgbClr val="57586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March 2, 2014: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Armed troops who were presumably Russian troops took up posts outside a Ukrainian military base in the Crimea region of Ukraine. Reportedly the base was surrounded by these troop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5" descr="Ukrainian-Military-Base-Crimea-Surrounded-by-Armed-Men-2MARCH2014.jpg"/>
          <p:cNvPicPr/>
          <p:nvPr/>
        </p:nvPicPr>
        <p:blipFill>
          <a:blip r:embed="rId2"/>
          <a:stretch/>
        </p:blipFill>
        <p:spPr>
          <a:xfrm>
            <a:off x="54100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IS Beheads British Humanitarian Aid Worker David Hain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eptember 13, 2014, an image showing British humanitarian aid worker David Haines prior to his brutal execution at the hands of ISI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5" descr="Daily-Mail-13SEPT2014-photo-release-ISIS-Executes-David-Haines.jpg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rrorism in France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6240" y="3209760"/>
            <a:ext cx="800388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mages released by French authorities of two people believed to be connected to a hostage situation in Paris, January 9, 2015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Yahoo.com-copy-French-Law-Enforcement-Images-Hayat-Boumeddiene-and-Amedy-Coulibaly.jpg"/>
          <p:cNvPicPr/>
          <p:nvPr/>
        </p:nvPicPr>
        <p:blipFill>
          <a:blip r:embed="rId2"/>
          <a:stretch/>
        </p:blipFill>
        <p:spPr>
          <a:xfrm>
            <a:off x="990720" y="12193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rench Forces Bring Two Hostage Situations to an En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wo brothers suspected of carrying out the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Charlie Hebdo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Massacre, and who evidently were killed during an assault by French forces on January 9, 2015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ollege Football Playoff Championship Game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hio State Defeated Oregon, 42 to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anuary 12, 2015 (Monday)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5" descr="AP-Photo-Ohio-State-Runner-Carries-the-Ball-Against-Oregon-National-Championship-Game-Monday-12JAN2015.jpg"/>
          <p:cNvPicPr/>
          <p:nvPr/>
        </p:nvPicPr>
        <p:blipFill>
          <a:blip r:embed="rId3"/>
          <a:stretch/>
        </p:blipFill>
        <p:spPr>
          <a:xfrm>
            <a:off x="4495680" y="1752480"/>
            <a:ext cx="4648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 Bowl XLIX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New England Patriots Defeated the Seattle Seahawks, 28 to 2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February 1, 2015 (Sunday)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5" descr="Getty-Images-New-England-HC-Bill-Belichick-celebrating-with-Patriots-Player-Darrelle-Revis-after-winning-Super-Bowl-XLIX-versus-the-Seattle-Seahawks-1FEB2015.jpg"/>
          <p:cNvPicPr/>
          <p:nvPr/>
        </p:nvPicPr>
        <p:blipFill>
          <a:blip r:embed="rId2"/>
          <a:stretch/>
        </p:blipFill>
        <p:spPr>
          <a:xfrm>
            <a:off x="5029200" y="16002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EO OF APPLE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ugust 24, 2011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im Cook, Baldwin County, Alabama nativ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and an alumnus of both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obertsdale High School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uburn University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was named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hief Executive Officer of Appl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one of the world's foremost computer compani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200px-Tim_Cook_2009_cropped.jpg"/>
          <p:cNvPicPr/>
          <p:nvPr/>
        </p:nvPicPr>
        <p:blipFill>
          <a:blip r:embed="rId2"/>
          <a:stretch/>
        </p:blipFill>
        <p:spPr>
          <a:xfrm>
            <a:off x="5486400" y="16765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BallroomTango"/>
              </a:rPr>
              <a:t>Best coach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Verdana"/>
              </a:rPr>
              <a:t>Joe Paterno Won his 409th Game at Penn State</a:t>
            </a:r>
            <a:r>
              <a:rPr b="0" lang="en-US" sz="3200" spc="-1" strike="noStrike">
                <a:solidFill>
                  <a:srgbClr val="cc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AP-Photo-Joe-Paterno-29OCT2011-PSU-After-409th-Victory.jpg"/>
          <p:cNvPicPr/>
          <p:nvPr/>
        </p:nvPicPr>
        <p:blipFill>
          <a:blip r:embed="rId2"/>
          <a:stretch/>
        </p:blipFill>
        <p:spPr>
          <a:xfrm>
            <a:off x="4762440" y="1447920"/>
            <a:ext cx="438156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Quest for the Republican Nomination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cember 10, 2011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publicans presidential candidates debated prior to the Iowa Caucu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1215-final-Republican-Debate-thursday-night_full_380.jpg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U.S. Troops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he Last American Combat Troops Leave Iraq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ecember 18, 2011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U.S.-out-of-Iraq-2011.jpg"/>
          <p:cNvPicPr/>
          <p:nvPr/>
        </p:nvPicPr>
        <p:blipFill>
          <a:blip r:embed="rId2"/>
          <a:stretch/>
        </p:blipFill>
        <p:spPr>
          <a:xfrm>
            <a:off x="4857840" y="1600200"/>
            <a:ext cx="42861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Whitney Houston, 1963-2012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ebruary 11, 2012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Singer and Actress Whitney Houston died of a drug overdos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Whitney-Houston-1963-2012.jpg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ayvon Marti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lture War: The Killing of Trayvon Marti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bruary 26, 2012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Trayvon-Martin.jpg"/>
          <p:cNvPicPr/>
          <p:nvPr/>
        </p:nvPicPr>
        <p:blipFill>
          <a:blip r:embed="rId2"/>
          <a:stretch/>
        </p:blipFill>
        <p:spPr>
          <a:xfrm>
            <a:off x="5638680" y="15238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chard Land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ulture War: Southern Baptist Religious Right Political Activist Richard Land, Race, and the Murder of Trayvon Marti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March 31, 2012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Richard-Land-photo-portrait.jpg"/>
          <p:cNvPicPr/>
          <p:nvPr/>
        </p:nvPicPr>
        <p:blipFill>
          <a:blip r:embed="rId2"/>
          <a:stretch/>
        </p:blipFill>
        <p:spPr>
          <a:xfrm>
            <a:off x="5867280" y="1600200"/>
            <a:ext cx="327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28:00Z</dcterms:created>
  <dc:creator>user</dc:creator>
  <dc:description/>
  <dc:language>en-US</dc:language>
  <cp:lastModifiedBy>Mark Leavins</cp:lastModifiedBy>
  <dcterms:modified xsi:type="dcterms:W3CDTF">2015-02-20T00:47:50Z</dcterms:modified>
  <cp:revision>6</cp:revision>
  <dc:subject/>
  <dc:title>The American story part 2</dc:title>
</cp:coreProperties>
</file>